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7E4-6525-46BA-BFF8-07413B55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AE3-EEF2-4DEA-ABF6-3FFF5695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B42-6B83-4BD8-8C3F-026AA68C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ABB-3A21-4607-BEBF-D3E96CE9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AD45-8901-4326-B64B-BA356C39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544A-E719-40EC-AB29-8325C777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49FA-8C20-4087-8362-8D0F00A6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4957-A787-4D74-89A5-2D96A8F0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661A-EB60-45FF-90D1-F02455BF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565B-0AEB-410D-BA42-6C3C0AE1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E1F8-8A91-4A47-996A-49C4E486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158-6903-495E-8BD2-B2399EF3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284D-ACF9-4EC1-9A6C-1DE717C5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60F3-1943-4A60-99D5-52FBBBD5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620D-FAD1-4C97-ADE7-909469D2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B535-F258-4402-8D1C-8331E621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13AB-162D-4CC2-87B1-52123420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216-8897-4D52-AA79-14B74DFB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EC4C-3B35-4224-918B-5EDC4DC6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6DB-46E4-432C-B31E-151A8356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CEC-9183-4935-8BCE-7842F4E0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2BA-3302-453D-AC53-BC9EF211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8B4-159B-4BD4-92C3-73D8A1E3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BCE-D380-4C85-A76A-CF21BF50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DB11-907D-4522-977C-AB5743E6504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DC3E-4FB3-46E2-97B2-C079496D948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ower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ncer played his playstation game for 8 hours last weekend.  The playstation uses 160 W of energy and the television uses 200 W of energy.  Calculate the cost to operate this syst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 = 8 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 = 160 W + 200 W = 360 W = 0.36 K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 =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 = P 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= 0.36 KW x 8 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= 2.88 KW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 = E x 9.11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¢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= 2.88 KWh x 9.11 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¢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= 26. 24 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¢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s Cook uses her 400 W projector for 2 hours each day for 30 days.  Calculate the cost to run the projec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 = 60 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 = 400 W = 0.4 K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 = P 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 0.4 KW x 60 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 24 KW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 = E x 9.11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¢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= 24 KWh x 9.11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¢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= 218.64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¢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= $2.1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lender operates using 15 amps of current and 240 V.  If the blender is used for 3 hours calculate how much that would co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 = I V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 = 15 A x 240 V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= 3600 W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= 3.6 KW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 = 3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 = 15 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 = 240 V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E = P 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= 3.6 KW x 3 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= 10.8 KW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 = E x 9.11 </a:t>
            </a:r>
            <a:r>
              <a:rPr b="0" lang="en-US" sz="1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¢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= 10.8 KWh x 9.11 </a:t>
            </a:r>
            <a:r>
              <a:rPr b="0" lang="en-US" sz="1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¢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= 98.39 </a:t>
            </a:r>
            <a:r>
              <a:rPr b="0" lang="en-US" sz="1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¢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527280" cy="2576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r Utilization of Electric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you ever heard the word Watt befo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you ever used the word Kilowatt before? Whe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a person is speaking                                       in terms of Watts they are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generally talking about th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amount of energy that they are                           us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8800" y="3819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wer is a measure of your energy consum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wer is measured in wat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calculate power using the following formula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 = I 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 – power (W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 – current (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 – voltage (V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1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much current is running through a 100 watt light bulb with a voltage of 120 V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 = 100 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 = 120 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=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= P / 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100 W / 120 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0.83 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much current is required to operate a DVD player that uses 1200 watts of energy and 120 volt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 = 1200 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 = 120 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=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= P / 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1200 W / 120 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10 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Cost of Electrical Ener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ical energy is required to operate electrical apparatu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cost of electrical energy is calculated using the following formul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 = P 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 = amount of electrical energy used in kilowatt-ho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 = power (kilowat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 = time (hou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alculate the cost to operate an electrical device you need to multiple the amount of energy consumed by the price of a kilowatt-hour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ost of a kilowatt-hour that we are going to use is 9.11 cents / hou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20:40:58Z</dcterms:created>
  <dc:creator>admin</dc:creator>
  <dc:description/>
  <dc:language>en-US</dc:language>
  <cp:lastModifiedBy>admin</cp:lastModifiedBy>
  <dcterms:modified xsi:type="dcterms:W3CDTF">2008-12-10T15:07:31Z</dcterms:modified>
  <cp:revision>7</cp:revision>
  <dc:subject/>
  <dc:title>Power</dc:title>
</cp:coreProperties>
</file>